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0AC7-DDB2-4707-86EF-869DFD75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B5E8-8A39-4A1C-BDAD-9DC363E1F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E99-2C43-4C92-AA5E-DBB769D5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9B6-E94C-4B69-B309-519E4C6F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BFB4-3834-4774-9CB3-6BEAB881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EE8C-7F71-4CBC-87DF-AAD24943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E787-8089-45A8-A81E-BCDABF06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2EE5-5CFD-4DCB-AF75-0B43B7C8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2363-712A-4991-A17F-726C8DFA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37E5-17C9-477F-A4E8-B3D60A5D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3CFA-11C7-4211-A360-F62E4DF0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7B2-9C42-4A32-8974-F870757F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0431-E9F8-44D5-B652-CC9579E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28FD-9F65-4FA9-BFF2-5B5E2B52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5F37-7396-4085-B873-09CE73DD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95E2-BB48-4CF4-A569-E21A4C62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8DA7-A6E9-4D94-8C4D-53E557F1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FF1-93E3-4FB6-B5E1-667A9BB2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BADC-1EE3-4A21-8E78-95ECFF91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B27-E643-4803-A855-FF53AB38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982-0072-46E0-B874-D8DA87AF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752-534B-4F22-90CD-BA75F874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C30-A66E-4582-9547-8A998FE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78D-42FA-4742-8CAB-92F60F50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D458-67A1-4584-8B6C-FBDC110759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A604-692E-4F5F-B90E-0373A6DCB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0" t="0" r="0" b="133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676520" y="43434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where holistic growth of students and teachers matter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99"/>
                </a:solidFill>
                <a:latin typeface="Arial"/>
              </a:rPr>
              <a:t>Science Technology 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be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collaboration 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Present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– Oxygen Flow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deo Presentation on the effects of too much Carbon e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chure about 12 little things a student can do to save 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projects are compl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 – W – L Ch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ive ess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rrative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 Detai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d Materi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only ½ illustration boar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coloring materials like paint, water color, crayons, pastel and etc. except for spray pai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ject should be covered by ace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owed to use any styro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ank you very much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nderstanding Carbon Cycle Key to Solving Problems of the World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is unit the students will create videos and sample brochures that they will showcase during the Science Month. The brochures will present the 12 little things a student can to do to save our earth, and the videos will show the negative effects of too much emission of carbon diox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 Found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1st Century Skil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ivity and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ical Thinking and Problem Sol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 and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T (Information, Communications and Technology) Lite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formation Lite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 Learning Compet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aluate the importance of the interdependency of living things for important gases through oxygen-carbon dioxide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truct a flow chart of Carbon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a video presentation showcasing the impacts of too much carbon e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a brochure presenting the 12 little things a student can do save ear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2819520" cy="27813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ssential Ques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an we do to save our earth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2419200" cy="2819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9718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nit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ways to conserve and save our eart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effects of too much emission carbon dioxide to our plane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arbon – oxygen cyc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oxygen and carbon dioxid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is carbon dioxide and oxygen import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sessment Pla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m Showing of “The Inconvenient Trut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 – test on the concepts of carbon – oxygen cy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insto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1:01:01Z</dcterms:created>
  <dc:creator>nave</dc:creator>
  <dc:description/>
  <dc:language>en-US</dc:language>
  <cp:lastModifiedBy>nave</cp:lastModifiedBy>
  <dcterms:modified xsi:type="dcterms:W3CDTF">2010-09-16T11:37:52Z</dcterms:modified>
  <cp:revision>6</cp:revision>
  <dc:subject/>
  <dc:title>Xavier University – Ateneo de Cagayan</dc:title>
</cp:coreProperties>
</file>